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43737"/>
        <c:axId val="96263600"/>
      </c:barChart>
      <c:catAx>
        <c:axId val="89443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63600"/>
        <c:crosses val="autoZero"/>
        <c:auto val="1"/>
        <c:lblAlgn val="ctr"/>
        <c:lblOffset val="100"/>
        <c:noMultiLvlLbl val="0"/>
      </c:catAx>
      <c:valAx>
        <c:axId val="962636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43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FA2D-5439-48E4-9A4C-A7741F6A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3BE-7C4C-4EDB-8892-F40C9B61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64A-1A27-4976-894E-32CB3CA3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DB70-7DAF-489D-86AE-15F2B033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FD6-4B0D-48FC-870D-FAF6F014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0568-D850-40BF-A5E3-0ADC03F2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425-E21E-44D3-B952-2F38E670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3AF3-3626-4504-B5BC-40493AB9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BB9E-A069-4DF1-9ADA-B7984688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CC3-0EEA-466C-91E5-F8E9F661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EB2-D403-4A3F-8E97-AEAAC5E2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77B-7BBD-4E4F-BE17-1339B9D3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BDD5E-4315-48C2-A83C-CCCEDB0427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