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41123"/>
        <c:axId val="16699629"/>
      </c:barChart>
      <c:catAx>
        <c:axId val="89341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99629"/>
        <c:crosses val="autoZero"/>
        <c:auto val="1"/>
        <c:lblAlgn val="ctr"/>
        <c:lblOffset val="100"/>
        <c:noMultiLvlLbl val="0"/>
      </c:catAx>
      <c:valAx>
        <c:axId val="16699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1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D01-2F20-4262-963F-4B76C2DE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79F-E65F-4264-9868-BAA20D0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69B-DA39-475F-80D4-58C61160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B46-F595-4BBA-B847-585F465E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B2E-6284-457F-B05B-ED1F42E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EDF-4F27-44D2-B942-1F43F5DC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E73-DDDA-48BD-BB2F-C0942BF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054-632D-4B14-B699-2F4AFC42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739-4E74-468E-8ACF-960F688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6CB-39F3-4C54-B32F-B5AF6C1A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C15-5DC4-4DA3-8ECB-83FA373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622-24D2-46A1-B04A-C325081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6186A-C1A9-43DA-940E-D1635170A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