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56949"/>
        <c:axId val="44922732"/>
      </c:barChart>
      <c:catAx>
        <c:axId val="40656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22732"/>
        <c:crosses val="autoZero"/>
        <c:auto val="1"/>
        <c:lblAlgn val="ctr"/>
        <c:lblOffset val="100"/>
        <c:noMultiLvlLbl val="0"/>
      </c:catAx>
      <c:valAx>
        <c:axId val="44922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56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AC0-63D6-4140-BE6F-5151536F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DDB-22F7-4BDC-84D0-9D9688B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3FE-7838-4790-9DA6-93E1C13D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B4B-D331-40F9-81BC-63F196FF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EFA-D617-4C8D-8B68-A82A7A38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411-D666-4D00-B52F-8D4AB90B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9D2-05EE-4F3D-95B5-E92C9CA4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3AB-2D1A-4187-AC79-47671A0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ED3-F7C8-4CF1-99FA-E0EA4B5B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992-7573-4B7D-B2F8-109B0B2D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076-FC32-4031-8716-B004AAC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643-1868-4370-8E59-E6C9C4D8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AB0A1-692E-4C95-B100-BA36B7BEE0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