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55285"/>
        <c:axId val="47278880"/>
      </c:barChart>
      <c:catAx>
        <c:axId val="89155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78880"/>
        <c:crosses val="autoZero"/>
        <c:auto val="1"/>
        <c:lblAlgn val="ctr"/>
        <c:lblOffset val="100"/>
        <c:noMultiLvlLbl val="0"/>
      </c:catAx>
      <c:valAx>
        <c:axId val="47278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55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8B1-01A8-49E9-81FF-61F91DFF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73E-FB4A-4967-AE91-14C252E8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D6F-2589-43D6-8DB1-1739070D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F00-25E8-4651-8C63-DAD3076B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3C3-FE24-41B1-8DC9-9CD653DA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F40-6F09-47DF-88B0-88C7DF2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F57-2637-4B54-ABB0-F6EED113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2C2-C8F3-4F74-AB6D-CD0DA2B4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CB1-D34D-4CBA-9ACD-0F65C6A9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22D-D179-4152-BBCC-CA4E648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0BB-9F41-4468-8F9F-8A735A0A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488-9C08-4D58-AFF0-EDC4A10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A3BD6-DA03-4835-AD53-33EC37DC30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