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3562081"/>
        <c:axId val="23867206"/>
      </c:barChart>
      <c:catAx>
        <c:axId val="6356208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867206"/>
        <c:crosses val="autoZero"/>
        <c:auto val="1"/>
        <c:lblAlgn val="ctr"/>
        <c:lblOffset val="100"/>
        <c:noMultiLvlLbl val="0"/>
      </c:catAx>
      <c:valAx>
        <c:axId val="2386720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56208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61F2-2090-4485-962C-422C0CD55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8BFD-1B6C-479E-A27B-E0CDBD232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8FDA-2F57-47F5-AB76-0DE710239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96B1-6E27-49AF-8067-36CAE3C76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659D-838C-4FBB-9060-C31CDA0F3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746D-0DFF-4260-8697-8DC1392E5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6DFC-A79B-4EBB-AA1C-5363A6412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070F-5336-47A8-A151-55977AC96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6B01-80C6-48BE-8266-F5C30E173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60F5-C206-4EF3-BBF9-DC49613B9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C6BD-21E1-4340-8DA4-FE7F8944E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E550-AD77-40CA-8205-C327F297B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C1AD63-E110-4ABC-9EEA-9A6A07FD286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