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07270"/>
        <c:axId val="15724980"/>
      </c:barChart>
      <c:catAx>
        <c:axId val="40707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24980"/>
        <c:crosses val="autoZero"/>
        <c:auto val="1"/>
        <c:lblAlgn val="ctr"/>
        <c:lblOffset val="100"/>
        <c:noMultiLvlLbl val="0"/>
      </c:catAx>
      <c:valAx>
        <c:axId val="15724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07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7AE-0B9B-4FD5-948F-6D35AC0F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C95-93C5-4F6F-9685-BF9532F5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2AE-7985-4B73-91B3-9A657FC6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94B-684B-4B99-818A-2F3C7A7A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39D-B586-4F48-BF67-FCB7223A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003-84D1-4EF2-9940-FF52D93F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D75-DC0E-4D96-AF8D-A034EB4B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D04-A3DF-4CA7-AF3B-8A6950E5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365-7343-40B8-A958-72C938EF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5F8-80BE-49AD-ABB6-F3DD5F9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809-E9E9-4DFD-884B-90AB4CE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7E4-D360-41CB-B859-2DF4FF85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14803-EFA1-490B-881F-70C2426D40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