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6517"/>
        <c:axId val="1732537"/>
      </c:barChart>
      <c:catAx>
        <c:axId val="4866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2537"/>
        <c:crosses val="autoZero"/>
        <c:auto val="1"/>
        <c:lblAlgn val="ctr"/>
        <c:lblOffset val="100"/>
        <c:noMultiLvlLbl val="0"/>
      </c:catAx>
      <c:valAx>
        <c:axId val="1732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6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41A-A662-4E21-9C42-6FD0D9CD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A77-3252-42FF-B9B3-82EEEBB7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906-8E24-42DE-B5A2-2B20AE1C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175-3D53-423D-B2D3-EE47153F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C43-BCFE-43C6-BB12-FE13BF87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E99-A487-44F3-8060-D81729C2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960-D156-4F2D-93EC-241F2714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24D-E41E-49E8-8D55-15E56387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4C8-6A1A-4261-80E1-9CEE30B3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B19-2375-4099-88F9-09EA0DFE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B32-196C-4703-9138-823578A3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CA4-84BF-4F67-9906-CC50C877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11CA5-11CE-403E-B578-C7BEBEAAEC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