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653172"/>
        <c:axId val="38606327"/>
      </c:barChart>
      <c:catAx>
        <c:axId val="506531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606327"/>
        <c:crosses val="autoZero"/>
        <c:auto val="1"/>
        <c:lblAlgn val="ctr"/>
        <c:lblOffset val="100"/>
        <c:noMultiLvlLbl val="0"/>
      </c:catAx>
      <c:valAx>
        <c:axId val="386063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531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B174-9A0B-4D26-BF53-1DA83A64A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09F2-BCD9-4044-A118-07676EF5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BABE-9794-48F9-99AB-AA5C2DE61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8ADF-8EFD-4713-9D8D-1915A1AD6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B3A0-351D-47DB-882E-C50ED127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EC80-F2B5-43F8-BEE1-8576949F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13CD-3A50-4B76-B53A-B743778C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4EE9-C10E-419E-BE14-376AC8A8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0580-A2DE-424C-874D-CA79CF9F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F685-B865-4207-9EA2-6C666758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3DAC-34D9-459E-9E13-C22BF82C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E66A-015E-487B-8920-C215D7F6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5ABC0-BDD8-4098-BFEE-9DA1807737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